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6092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345360" y="213336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17648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76092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345360" y="4427640"/>
            <a:ext cx="2460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187280" y="1557000"/>
            <a:ext cx="6553440" cy="23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93280" y="442764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1489680"/>
            <a:ext cx="65534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764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93280" y="2133360"/>
            <a:ext cx="372996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176480" y="4427640"/>
            <a:ext cx="7643520" cy="209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1557000"/>
            <a:ext cx="6553440" cy="50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176480" y="2133360"/>
            <a:ext cx="764352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111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111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image" Target="../media/image4.jpeg"/><Relationship Id="rId14" Type="http://schemas.openxmlformats.org/officeDocument/2006/relationships/image" Target="../media/image4.jpeg"/><Relationship Id="rId15" Type="http://schemas.openxmlformats.org/officeDocument/2006/relationships/image" Target="../media/image4.jpeg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image" Target="../media/image4.jpeg"/><Relationship Id="rId11" Type="http://schemas.openxmlformats.org/officeDocument/2006/relationships/image" Target="../media/image4.jpeg"/><Relationship Id="rId12" Type="http://schemas.openxmlformats.org/officeDocument/2006/relationships/image" Target="../media/image4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6705720" cy="112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</a:rPr>
              <a:t>Tips, Tricks and Tasty Tidbits</a:t>
            </a:r>
            <a:br>
              <a:rPr sz="3200"/>
            </a:br>
            <a:r>
              <a:rPr b="1" lang="en-US" sz="2800" spc="-1" strike="noStrike">
                <a:solidFill>
                  <a:srgbClr val="800000"/>
                </a:solidFill>
                <a:latin typeface="Tahoma"/>
              </a:rPr>
              <a:t>IWLA Conference 2013</a:t>
            </a:r>
            <a:br>
              <a:rPr sz="3200"/>
            </a:br>
            <a:endParaRPr b="1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33520" y="2057040"/>
            <a:ext cx="45720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tephanie Prine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nish Teac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panish Club Adviso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 Senior High Schoo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Dubuque, Iowa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8108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—Random Grammar 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ara mi, para ti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Ven di sal haz ten ve pon se (Vin Disel has ten weapons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Or Di Haz Ve Pon Sal Se Ten Ven– To the tune of “She’ll Be Comin’ ‘Round the Mountain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Move Ud. And Uds. Up in the chart so all the “yous” are togethe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5257800" y="4038480"/>
          <a:ext cx="2971800" cy="2417760"/>
        </p:xfrm>
        <a:graphic>
          <a:graphicData uri="http://schemas.openxmlformats.org/drawingml/2006/table">
            <a:tbl>
              <a:tblPr/>
              <a:tblGrid>
                <a:gridCol w="1254240"/>
                <a:gridCol w="1717560"/>
              </a:tblGrid>
              <a:tr h="83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Yo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N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Tú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Vosotr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cf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.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780078"/>
                          </a:solidFill>
                          <a:latin typeface="Arial"/>
                        </a:rPr>
                        <a:t>Uds. 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o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4747"/>
                          </a:solidFill>
                          <a:latin typeface="Arial"/>
                        </a:rPr>
                        <a:t>Ellas</a:t>
                      </a:r>
                      <a:endParaRPr b="0" lang="en-US" sz="1800" spc="-1" strike="noStrike">
                        <a:solidFill>
                          <a:srgbClr val="111111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2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ricks– El preterito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905120" y="837720"/>
            <a:ext cx="6912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reterit Rhym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P-Snaps and Ripple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Fantastic Prezi for preterit grouping---by Sarah Ruiz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11111"/>
                </a:solidFill>
                <a:uFillTx/>
                <a:latin typeface="Arial"/>
              </a:rPr>
              <a:t>http://prezi.com/f_wayvxelvwb/?utm_campaign=share&amp;utm_medium=copy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240" y="1915920"/>
            <a:ext cx="85914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asty Tidbit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asty tidbits are what spice up your classroom!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Games are a great way to reinforce topics from class, particularly those that have to do with vocabulary and gramma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Here’s a list of what we do to spice it up at Dubuque Senior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zy Fly Swatter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Go Fish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Memory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Habla la palabra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c tac to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Ladder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hispa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Cranio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oilet Charade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Bluff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Tira un seis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nail Game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02950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Examples of these can all be found under the IWLA tab at www.sraprine.wikispaces.com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ore Tasty Tidbit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Some awesome and super tasty tidbits from IWLAs past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Verb Squares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rcas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Roommate Game (Regina Schantz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iggy Bank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astermind (Lisa Sobotka)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Are you on Pinterest?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If not, get on it ASAP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re are TONS of amazing ideas to keep things extra spicy in your classroom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http://www.pinterest.com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Make your classroom “Pintresting”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is is my “low tech” pintrest board in my classroom. (Idea stolen from Jason Noble)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109" name="Picture 1" descr="photo.JPG"/>
          <p:cNvPicPr/>
          <p:nvPr/>
        </p:nvPicPr>
        <p:blipFill>
          <a:blip r:embed="rId3"/>
          <a:stretch/>
        </p:blipFill>
        <p:spPr>
          <a:xfrm>
            <a:off x="2743200" y="2438280"/>
            <a:ext cx="47750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Questions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hings to share?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057040" y="404640"/>
            <a:ext cx="669132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ahoma"/>
              </a:rPr>
              <a:t>Contact Information</a:t>
            </a:r>
            <a:endParaRPr b="1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591400" cy="448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1111"/>
                </a:solidFill>
                <a:latin typeface="Arial"/>
              </a:rPr>
              <a:t>http://www.senior.dubuque.k12.ia.us/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tephanie Prine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prine@dbqschools.org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www.sraprine.wikispaces.com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Many of these tips and tricks are really gimmicks that help build your classroom community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y build rapport between you and your student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Really, these are just some classroom management strategies.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Listos, listos!-- ¡Sí estamos listos!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Prrrrrrróximo!– r rolling contest first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Lávate las manos (Noah Geisel)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Olé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¡Qué lástima!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No me diga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905120" y="609120"/>
            <a:ext cx="6912000" cy="548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Gimme an ooooo…..ahhhhh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peating vocab words with funny inflections: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urprise, question, feeling sick, tired, excited, British accent, etc..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ussian accent for incorrect grammar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e) You go to house white?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Fake bad words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acapuntas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racas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Bufanda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Pick whatever words are funny to YOU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568160" indent="-223920"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Kids buy what YOU sel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5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5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8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lausos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golf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uav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Fuert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ento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on los pi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n un circul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De fuegos artificiales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08000" y="189000"/>
            <a:ext cx="655344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Tips and Tricks</a:t>
            </a:r>
            <a:endParaRPr b="1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8000" y="836640"/>
            <a:ext cx="69120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Da tu compañero…</a:t>
            </a:r>
            <a:endParaRPr b="0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21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cod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a rodilla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5 arriba y abajo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Un puño con una explosión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Etc…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859280" y="404640"/>
            <a:ext cx="388944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2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591400" cy="372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800000"/>
                </a:solidFill>
                <a:latin typeface="Arial"/>
              </a:rPr>
              <a:t>Tricks</a:t>
            </a:r>
            <a:endParaRPr b="0" lang="en-US" sz="96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8T21:19:33Z</dcterms:created>
  <dc:creator>rockaitisr</dc:creator>
  <dc:description/>
  <dc:language>en-US</dc:language>
  <cp:lastModifiedBy>Prine, Stephanie</cp:lastModifiedBy>
  <cp:lastPrinted>2013-10-09T20:29:33Z</cp:lastPrinted>
  <dcterms:modified xsi:type="dcterms:W3CDTF">2013-10-09T20:32:12Z</dcterms:modified>
  <cp:revision>193</cp:revision>
  <dc:subject/>
  <dc:title>60 Treats for Your Bag of Trick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BCDF0FE39D892947B3E733C6E3BB7278</vt:lpwstr>
  </property>
  <property fmtid="{D5CDD505-2E9C-101B-9397-08002B2CF9AE}" pid="3" name="PublishingExpirationDate">
    <vt:lpwstr/>
  </property>
  <property fmtid="{D5CDD505-2E9C-101B-9397-08002B2CF9AE}" pid="4" name="PublishingStartDate">
    <vt:lpwstr/>
  </property>
</Properties>
</file>